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87D3-4ABB-498D-83C3-C337911E1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thinks before acting, is reliable, and accepts responsibility for the consequences of his/her cho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thinks before acting, is reliable, and accepts responsibility for the consequences of his/her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doesn’t make excuses, or blame others for mistakes personally ma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doesn’t make excuses, or blame others for mistakes personally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sets a good example for others to look up t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sets a good example for others to look up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sue Excellenc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ibiting diligence, perseverance, and striving for continuous improv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sue Excellenc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ing diligence, perseverance, and striving for continuous improv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c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finishes what he/she starts and doesn’t give up easily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finishes what he/she starts and doesn’t give up easily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takes the responsibility of looking for ways to improve his/her work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takes the responsibility of looking for ways to improve his/her work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doesn’t surrender to obstacles or excuses, instead overcoming them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doesn’t surrender to obstacles or excuses, instead overcoming them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end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lf and the Crane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lf and the Crane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dependable and making good choi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dependable and making good cho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Did the crane consider the consequences of her ac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Did the crane consider the consequences of her 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Is it good to understand actions and consequences at a young ag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Is it good to understand actions and consequences at a young a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 Why do our decisions and actions have consequenc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y do our decisions and actions have consequen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d men prefer to be accountab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ichael Edwar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men prefer to be accountab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ichael Edwar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can’t escape the responsibility of tomorrow by evading it tod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braham 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’t escape the responsibility of tomorrow by evading it tod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braham Linco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Privilege,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Responsibility.”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Privilege,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e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sponsibility.”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illingness to accept responsibility for one’s own life is the source from which self-respect spring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Joan Did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llingness to accept responsibility for one’s own life is the source from which self-respect spring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Joan Did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take responsibility for yourself you will develop a hunger to accomplish your dream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es Br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responsibility for yourself you will develop a hunger to accomplish your dream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es Br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ice of greatness is responsibilit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ir Winston Churchill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ce of greatness is responsibilit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r Winston Churchill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are accountable only to ourselves for what happens in our liv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ildred Newma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ccountable only to ourselves for what happens in our liv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ildred Newma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le people are accountable, pursue excellence, and exercise self-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people are accountable, pursue excellence, and exercise self-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abl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ing the blame or credit for one’s choices or behavi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l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 blame or credit for one’s choices or behavi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5B0-7B93-4B76-8D1E-4082B4EB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E65-1BA5-4E42-AD20-DDB63B77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39D-8DAF-40F8-9342-A3154916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EB6-EA4D-4A85-AE70-F851683E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4CFF-290A-4E61-A00B-7B8FE4DA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0083-0036-44C8-B17C-4C254422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5A5F-665F-4E11-8778-1E356655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1A38-8BBD-4D52-944E-D392A195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029B-9A3A-4F0C-B1E2-A36757DF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CD09-CA9A-426B-B2A7-F5217828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5CFB-E8FE-485E-B633-11C50AA8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273-5117-4E1C-92DA-4839D5D6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00AE-1CCF-4A9D-A777-77BCB190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2386-F558-4F67-A9E1-2049F9D2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4879-9F81-444C-BEA2-138E7A2D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EE47-18F5-4B0C-BFD1-4769AB7A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8BFF-7D16-40E5-98D3-3060F244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A03-0C19-4426-BE01-41655A31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C5B-693B-448F-9E4C-8CCBCEF0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126-552D-400B-9FDB-33AC782A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86B-3D34-4746-89E5-3F989B78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AA4-52E6-4740-9C7D-C98AF649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F77-CDF8-47AE-9632-1C2871D0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B4B-5159-45CF-B48D-EF58BA76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ED83-FC02-45BC-A5A6-40AAC695E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C275-0F9B-4F7D-9773-6F7D44C39B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Responsibilit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4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n accountable person thinks before acting, is reliable, and accepts responsibility for the consequences of his/her choic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An accountable person doesn’t make excuses, or blame others for mistakes personally made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38512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An accountable person sets a good example for others to look up to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ursue Excellence: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xhibiting diligence, perseverance, and striving for continuous improvement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cellenc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j0240719"/>
          <p:cNvPicPr/>
          <p:nvPr/>
        </p:nvPicPr>
        <p:blipFill>
          <a:blip r:embed="rId1"/>
          <a:stretch/>
        </p:blipFill>
        <p:spPr>
          <a:xfrm>
            <a:off x="5791320" y="2286000"/>
            <a:ext cx="2535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finishes what he/she starts and doesn’t give up easily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takes the responsibility of looking for ways to improve his/her work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doesn’t surrender to obstacles or excuses, instead overcoming them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un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n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stwort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cell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ept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Wolf and the Crane.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dependable and making good choice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7" descr="j0233018"/>
          <p:cNvPicPr/>
          <p:nvPr/>
        </p:nvPicPr>
        <p:blipFill>
          <a:blip r:embed="rId1"/>
          <a:stretch/>
        </p:blipFill>
        <p:spPr>
          <a:xfrm>
            <a:off x="3200400" y="3252960"/>
            <a:ext cx="257508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.  Did the crane consider the consequences of her ac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4.  Is it good to understand actions and consequences at a young ag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5.  Why do our decisions and actions have consequenc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od men prefer to be accountable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-Michael Edwar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can’t escape the responsibility of tomorrow by evading it today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-Abraham Lincol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With Privilege,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Comes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 Responsibility.”</a:t>
            </a:r>
            <a:br>
              <a:rPr sz="4000"/>
            </a:br>
            <a:br>
              <a:rPr sz="40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willingness to accept responsibility for one’s own life is the source from which self-respect spring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Joan Didio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If you take responsibility for yourself you will develop a hunger to accomplish your dream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Les Brow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price of greatness is responsibility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Sir Winston Churchill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e are accountable only to ourselves for what happens in our live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Mildred Newma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ponsible people are accountable, pursue excellence, and exercise self-contr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j0090070"/>
          <p:cNvPicPr/>
          <p:nvPr/>
        </p:nvPicPr>
        <p:blipFill>
          <a:blip r:embed="rId1"/>
          <a:stretch/>
        </p:blipFill>
        <p:spPr>
          <a:xfrm>
            <a:off x="5410080" y="2057400"/>
            <a:ext cx="2819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countabl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epting the blame or credit for one’s choices or behavio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j0195812"/>
          <p:cNvPicPr/>
          <p:nvPr/>
        </p:nvPicPr>
        <p:blipFill>
          <a:blip r:embed="rId1"/>
          <a:stretch/>
        </p:blipFill>
        <p:spPr>
          <a:xfrm>
            <a:off x="5257800" y="2057400"/>
            <a:ext cx="2509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5:23Z</dcterms:modified>
  <cp:revision>8</cp:revision>
  <dc:subject/>
  <dc:title>Character Education Responsibility</dc:title>
</cp:coreProperties>
</file>